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52A4-7028-48B8-B43B-00AE05E3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find a real life example of cross road interse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2806-C72E-435F-B71E-B3EC0C90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give the formula. You can find the formula on the taks formula 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FBA2-C01F-4523-9B5D-19E93445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not understand th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CBDA-23A0-4D2D-B72F-5DC95B4B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this exampl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24C-51E4-4D7C-9B28-0D21745D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8BB-FF07-4BD0-8230-09BA7A5C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4FD-099F-43CA-855D-3031798F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A0C-43B2-498E-BBE5-F14C760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0D2-C0AD-40E3-8B9B-2D4F872F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EE95-9B42-47E7-8437-C487584D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024-DE7E-46C2-8F7A-F91EAF4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D9E-D0D2-449D-A5E2-EC1309A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B94-D70F-4564-A17C-EFD84163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EE3-A1D0-4DD1-8171-4306E1EC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42A-7369-4D4F-A7D6-150E95D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0D83-633E-44F1-9AA7-90A6FC43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7C1-8D94-48E1-8BEA-D45D4041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317-6108-4298-AB95-F70B83B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D35E-D0BE-493A-AA96-1A9EC30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EEB9-697B-4FA9-A11C-81BAC178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6C8B-3790-4BBF-A491-300A6C48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F8AF-3EE8-44C4-BD35-FDF127BF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31F-8DBE-4F7C-873F-58B1173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B74-E794-4E71-BA1B-69EFEE3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82D-A2C0-4614-877E-5B8FC1FB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E12-35F3-4B9F-8978-EFB3F40E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AC0-6342-40BD-9BA1-7EA6B4A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682-F07C-4D62-9D91-831E3F8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42B-0932-4E52-8F89-7F903024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AD54-97EB-43A9-B84C-FBAF20027F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B8C-65F8-4D08-99B2-D55F2448E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y Vocabula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XXX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re two lines cross and meet at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ntersection"/>
          <p:cNvPicPr/>
          <p:nvPr/>
        </p:nvPicPr>
        <p:blipFill>
          <a:blip r:embed="rId1"/>
          <a:stretch/>
        </p:blipFill>
        <p:spPr>
          <a:xfrm>
            <a:off x="5562720" y="167652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4191120" y="4952880"/>
            <a:ext cx="441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wrong with this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ythagorean Theor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theorem that the sum of the squares of the lengths of the sides of a right triangle is equal to the square of the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2408623800_850bb22fdf_t.jpg"/>
          <p:cNvPicPr/>
          <p:nvPr/>
        </p:nvPicPr>
        <p:blipFill>
          <a:blip r:embed="rId1"/>
          <a:stretch/>
        </p:blipFill>
        <p:spPr>
          <a:xfrm>
            <a:off x="5943600" y="3276720"/>
            <a:ext cx="2077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Lines that do not touch across from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parallel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4191120" y="4952880"/>
            <a:ext cx="441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wrong with this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Is a flat surface has length and width that can be extended, but has no th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3857530629_52fc1cb0fa_t.jpg"/>
          <p:cNvPicPr/>
          <p:nvPr/>
        </p:nvPicPr>
        <p:blipFill>
          <a:blip r:embed="rId1"/>
          <a:stretch/>
        </p:blipFill>
        <p:spPr>
          <a:xfrm>
            <a:off x="3936960" y="3003480"/>
            <a:ext cx="416088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ollection of points, part of                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a line, no length, has one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n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302557834_0b06419b37_t.jpg"/>
          <p:cNvPicPr/>
          <p:nvPr/>
        </p:nvPicPr>
        <p:blipFill>
          <a:blip r:embed="rId1"/>
          <a:stretch/>
        </p:blipFill>
        <p:spPr>
          <a:xfrm>
            <a:off x="533520" y="1828800"/>
            <a:ext cx="23875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planar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Points on the sam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e examples are the dots on the man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7" descr="2360203739_499e66d051_t.jpg"/>
          <p:cNvPicPr/>
          <p:nvPr/>
        </p:nvPicPr>
        <p:blipFill>
          <a:blip r:embed="rId1"/>
          <a:stretch/>
        </p:blipFill>
        <p:spPr>
          <a:xfrm>
            <a:off x="4800600" y="2666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llection of points, no length, no endpoints, can be named using smal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 is the line of marching band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9" descr="3476003863_21564768be_t.jpg"/>
          <p:cNvPicPr/>
          <p:nvPr/>
        </p:nvPicPr>
        <p:blipFill>
          <a:blip r:embed="rId1"/>
          <a:stretch/>
        </p:blipFill>
        <p:spPr>
          <a:xfrm>
            <a:off x="5105520" y="2286000"/>
            <a:ext cx="330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llinear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ints on the sa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examples are the lights all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5" descr="59880929_0ffe721ad0_t.jpg"/>
          <p:cNvPicPr/>
          <p:nvPr/>
        </p:nvPicPr>
        <p:blipFill>
          <a:blip r:embed="rId1"/>
          <a:stretch/>
        </p:blipFill>
        <p:spPr>
          <a:xfrm>
            <a:off x="4952880" y="2514600"/>
            <a:ext cx="3797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Represented by a dot, shows location has no size, has no endpoint, names using big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images.jpg"/>
          <p:cNvPicPr/>
          <p:nvPr/>
        </p:nvPicPr>
        <p:blipFill>
          <a:blip r:embed="rId1"/>
          <a:stretch/>
        </p:blipFill>
        <p:spPr>
          <a:xfrm>
            <a:off x="4952880" y="2819520"/>
            <a:ext cx="3043440" cy="32353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1143000" y="41911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could be done to enhance this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gruent Figur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ll same shape, sam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ongruent"/>
          <p:cNvPicPr/>
          <p:nvPr/>
        </p:nvPicPr>
        <p:blipFill>
          <a:blip r:embed="rId1"/>
          <a:stretch/>
        </p:blipFill>
        <p:spPr>
          <a:xfrm>
            <a:off x="2895480" y="3124080"/>
            <a:ext cx="56102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rotractor"/>
          <p:cNvPicPr/>
          <p:nvPr/>
        </p:nvPicPr>
        <p:blipFill>
          <a:blip r:embed="rId1"/>
          <a:stretch/>
        </p:blipFill>
        <p:spPr>
          <a:xfrm>
            <a:off x="3276720" y="3124080"/>
            <a:ext cx="5486400" cy="3105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 protractor is a device for measuring the angle between two intersecting lin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0:49:07Z</dcterms:created>
  <dc:creator>administrator</dc:creator>
  <dc:description/>
  <dc:language>en-US</dc:language>
  <cp:lastModifiedBy>Owner</cp:lastModifiedBy>
  <dcterms:modified xsi:type="dcterms:W3CDTF">2011-08-22T05:07:50Z</dcterms:modified>
  <cp:revision>25</cp:revision>
  <dc:subject/>
  <dc:title>Geometry Vocabulary Project</dc:title>
</cp:coreProperties>
</file>